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2E9-96DA-4EC1-8E93-5668ECD3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D18-55D1-4454-8DC8-5C9F1168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EEC-37B5-43CF-8375-F0C160C1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CC1-E827-44EF-B850-A023E992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1A9F-E432-4220-8695-80587FA1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FA4C-E17E-42E2-8538-E179DD73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8D2-5279-4BD3-884A-4B30EB29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0A25-159D-4303-A285-F53D777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6059-C7DE-4587-BF4F-626DE94B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5743-705D-4643-91A2-8444C484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522A-4BD8-4C42-85FB-0D649AE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3E8-7828-4E58-A135-F0380201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054C-9657-4159-BBA1-58F20BFD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DE00-30A6-4850-9858-2EAE90B3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7302-193C-4211-8DC4-B2FDD829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695E-1E19-44C9-9C1E-5D171D45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BF35-E147-4B03-9DE6-AB7362CC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835-E721-486F-A814-5ABA3899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16E-7C94-4B56-9C04-B595AB2B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D3E-3929-47CF-9A1B-7873F7F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161-5A1B-47E2-ADD3-08372EB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7AA-0773-4871-B017-56B04D6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E8E-AA53-48C3-B7B2-6BAFC87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65B-5DF7-4A8C-B0A0-48B6DA4E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0BBD-5D59-4352-B2DB-CBCEBE11CA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04A1-66E3-40A2-90C7-6446587624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ENERAL OUTLINE OF THE PAR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reparedness &amp; Emergency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se &amp; Foolish Virgins (Matthew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5:1-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pportunity, Fidelity and Reward (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Talents (Matthew 25:14-3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ounds (Luke 19:11-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inal Judgment of the Kingdom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heep &amp; the Goats (Matthew 25:31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FORMAT FOR STUDY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dentification and Reading of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 it General The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Out its Main Lesson or Les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uss it Cont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to make Appl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al with Problem Areas if there are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ly Ministry Parables (14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ater Ministry Parables (20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ssion Week Parables (9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mat for studying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EARLY MINISTRY (1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Good News of the Kingdom of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flict of the new and the old (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uest of the Bridegro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18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Patches and Old Gar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Wine and Old winesk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9: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easurers new and o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13:51-5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ilitudes of the Kingdom (7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Growing Seed (Mark 4:26-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(Mark 4:30-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eaven (Luke 13:20-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Hidden Treasure (Matt 13:3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earl of Great Price      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Matthew 13:45-4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ragnet (Matthew 13:47-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ponsibility of Hearing (1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(Matthew 13:3-9; Mark 4:2-8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3-20; Luke 8:4-8, 11-15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anslating Hearing into Doing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ittle Children in the Marketplac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7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se and foolish Builder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7:24-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 &amp; Presence of Evil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res &amp; Wheat (Matt 13:24-30, 36-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Children of the Kingdo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ditions of Discipleship (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mpty House (Matthew 12:43-4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Uncompleted Tow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14:29-3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arring King (Luke 14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s of discipleship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ief Seats (Luke 14:7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harisee and Publican (Luke 18:9-14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giveness Among The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wo Debtors (Luke 7:36-5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forgiving Servant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2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vileges and Duties of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arren Fig Tree (Luke 13:6-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profitable Servant (Luke 17:7-10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ourcefulness &amp; foresight in using money (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just Stewart (Luke 16:1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Fool (Luke 12:13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Man &amp; Lazarus (Luke 16:19-3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ue Nature of Neighbors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od Samaritan (Luke 10:25-3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Love of God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aborers in the Vineyard (Matthew 20:1-16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Answers Prayers (2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idnight Friend (Luke 11:5-13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ersistent Widow (Luke 18:1-8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Loves the Lost (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heep (Luke 15:3-7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Coin (Luke 15:8-10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on (Luke 15:11-2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Elder Brother (Luke 15:25-32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The Kingdom of God as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est of Deeds (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wo Sons (Matthew 21:28-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d’s Overtures Rejected (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uel Vinedresser (Matthew 21:33-4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eat Supper (Luke 14:15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riage Feast of King’s Son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dding Garments (Matthew 22:11-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22:54:12Z</dcterms:created>
  <dc:creator>Jerry Cantrell </dc:creator>
  <dc:description/>
  <dc:language>en-US</dc:language>
  <cp:lastModifiedBy>Jerry Cantrell </cp:lastModifiedBy>
  <dcterms:modified xsi:type="dcterms:W3CDTF">2006-02-07T04:50:46Z</dcterms:modified>
  <cp:revision>15</cp:revision>
  <dc:subject/>
  <dc:title>GENERAL OUTLINE OF THE PARABLES</dc:title>
</cp:coreProperties>
</file>